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277-882E-476A-B115-7063E7094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348-0BD4-4696-90CD-CAE6B00D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C0D2A-2308-4BD7-9D8B-A37EF5F2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307CE-B33D-4FA1-93DE-FBF13A103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77592-B239-4379-BFC8-8DD689F7C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174BC-C185-45CD-A6C1-2AE2F5B8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8A26D-8BFE-443A-BE30-1F1FBAB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8F1A-2565-40DA-A272-F0F842BA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5773E-8F2B-423E-BA24-84B4C95E5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AEBFC3-E008-43A8-99D9-4177D989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3994A-E1CC-4F37-809B-74B713FEC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061EA-D7EB-485B-856C-BB58878E6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56B0-2049-4770-A68C-903CC632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85F9F-CA53-4FA3-8055-EAF3DE10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6F642-753A-4140-8A7A-322CBD2F5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2C6BF-16BF-4EA0-8F3E-8CA692BB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F4B99-0BA6-4B4A-BB8D-60BB36E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2FE18E-59E2-4501-899A-123CE642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E439B-687C-4C81-9404-A4465DF4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8910E-01DF-4967-982E-BF4939E8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8F8B2-8563-4A50-895E-AEF6961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68467-10D3-41FD-8D6E-B28F2B34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E5DC5E-AB56-4E93-ADBB-D141EC2B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B162-ED9C-4EBB-9DC2-4CAC0960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FA3C3-5BBD-44A8-BD21-9DF7EFE70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BE7D6-0E9E-4E9B-9A11-209D338A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BCF32-3188-46CF-865C-493FA1FA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3C2C1-3DB7-4F74-A6D0-4F673403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48A84-7CA5-49FB-8A05-72D06D51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95245-A925-4407-A9E1-A90C76BD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A3909-1A5B-4859-B58B-F2280E5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E766A-E2E9-483C-9E7F-909CDD65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02746-2B3A-49B4-933D-9B75ED25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DC5A4-D98D-4637-9056-11CF7EC5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2652-AB52-4356-B491-9FE04F26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2792C-0DD3-49B0-81AF-B0F3D8C0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1400A-163C-4B87-AFE2-35F458972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12F0B-4ECC-4B7E-B955-AA89CABBB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2F15D2-B14D-4A07-865B-0098FB688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EF457-9B36-48E2-9E93-4C4E246E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A5BC0-A036-42E6-8BA8-E1750CE9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4061E-BADB-46B0-A8B0-52BFEE57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9FCA5-2A9C-49EA-840E-C1A4EAF8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2BA5A-F76F-455A-884E-BC5A7148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766EA-B383-45ED-9AAE-5BC94102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DED7-739E-43A5-9D64-0DA63389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FC552-6E74-471F-ADEF-552B492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65C196-F1C3-4F45-BA2E-400C3F6F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596B7C-6AE1-480D-BEA8-EBC14CA0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35B0B-2AAA-4E74-B87C-25CB78AE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F5B43C-430E-49A7-83BD-5E19ACEAE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5D049-704E-4FA7-9EAD-5DCBE8B91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D05091-E27D-4205-A08A-128BF86EE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16FFA-5981-427D-8509-9A62E483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1355D-6526-4E55-A004-BF20F9A4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40D91-F7AD-4171-84F5-C7BCE3B1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EE6DA-74A9-475A-ABA7-0A0D9781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B1A8F-D39D-4D13-82BC-D6DC3EDB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A3A73-B2D6-4442-9F87-90C5459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F27389-EC7C-4BCF-92A3-796F0394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EF25E-5464-424A-A24A-51660E5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4E7D6-A4B3-4B0D-8755-7584D922A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CAA1E-E90B-4CB4-8E54-AA3981BB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A02C7-7772-4181-B37B-6C3834D49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3D4AAF-A121-4A98-8BA9-C8520E272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5734A-2986-42C7-8EA2-FEE963C3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87673-C1CC-473D-8BC4-6A4384858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4707-7973-4346-A809-B422A705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94D65-6880-4EEC-B0DC-AF52354A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66490-1195-4E8C-A087-F5296C60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3C74C3-CDD0-4F3E-B121-36AECB75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63B2A-3054-4CBD-B0A2-945686E5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F1C89-D62A-43BF-A569-D3A6748B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03BA57-C132-4A3E-BF05-04307F96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D9AB0-7F27-4D95-ACB5-6B7C42C8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3F825E-6E63-4A11-9F8F-7123BFE6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D9C63-8A9F-4713-B40C-4AEED3C6E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E3B844-EEE7-4CBF-8AA5-8F1FAF00C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4255-3658-4775-BB6E-AB5DBAD1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089A07-BC43-4A3F-8AEE-19CA93E8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A42CD5-192C-4C18-894D-28C3F28A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4F7DB7-1DDF-4681-B872-78DD12BE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780753-DDAF-4C0C-8DE8-BE0E96A4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90CF4E-B5B0-4ADA-9A2A-52F7254B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1ED1D-39CE-4DB2-B2BC-F81779FC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8F76E-B195-44FA-9DCC-62FD10D1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2EF98F-248D-4FF0-B846-CA832D0D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997FB0-D972-4DBB-8AF3-A03EFE27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8739E3-3BD1-436D-BBF1-96CA2A99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FD88-B56F-47E5-8676-2983D90C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977523-B728-4963-9B23-7D46BB123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C187C2-AC02-4575-8C30-EF5F19F6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9F98F-F347-4555-87E3-19F6085C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88281-C1B1-4B64-AC45-28BD1D06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4A982-9EAB-4124-98F4-F2DFAC7E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98669-CBDF-43C6-AD8F-818F669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46E39D-2317-49BD-88BA-DD785F712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6370F-4DB9-4E4A-9CCC-8900F6B1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3C4DC-361A-48C6-AB8D-C6FE348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051131-C489-448F-BC00-6BDFB3CD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6B3B-51DC-494A-B5D6-AF7DE15B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25231F-61B2-462F-A8BE-0C96F850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E3EF1-138D-48F1-9D21-21609B07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70868-CC51-4C1A-B976-370EF4886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E644AA-00DA-49AD-A242-ED486EBD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09400-FABA-4F9D-920E-4FC26235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161062-7159-4D35-ADC8-B0F99C2E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09CBB-B16E-406D-AE4E-002A55CE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9B739B-2B62-4157-9793-31068FF98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EE1962-5194-4057-A74A-9357B40D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15C6AD-0415-4B86-BE48-A3AA1F7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454-DF52-4C5D-AEEF-5A5812751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4BC5-6B7A-4118-95CD-6F5DE682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67A7C0-7EFA-42DF-92F5-04D1918C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A4F575-BEEA-4857-9E5B-479E934F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BBF02-E156-472E-B56D-CAC39038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744FD-90B8-415E-AE8C-C96DF185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090058-2DB8-486B-B784-DB6C6F757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CA363-56E8-42DC-980D-A553CD889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66A6A-519E-4912-A6E5-AE8AF99E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FBF558-0222-488F-B9CD-65DC3181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934F2B-44F8-4CDE-AC37-97F79194A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1F422E-9C5D-42AE-ABF9-3B1DE88C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9CFC-DEFC-47F4-8DD4-9989AAEB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FA7BF0-BFEF-4518-8C05-82A40DD2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C4D172-92AE-4C7D-BCD2-1F185707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F3B830-D827-4B7E-91BA-C1790B93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511465-8D0D-457D-92D8-E932359E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DE7518-C162-4B1E-9D33-1C97C796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426DE-C5CE-44F2-8BF0-82DC0C91A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3CA55F-E7A1-477C-97F6-D40534B6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1B525B-8415-4F4D-8B1A-38C8981F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F750FA-3596-402D-A72F-05D0132B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AAB1AF-E208-4750-81AD-2D943319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DD80-A1B8-45AE-9FCC-38DE7ED9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870776-5842-4337-89CE-BD2EB1DF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AF613-7B35-4F35-AA48-43A98B40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261947-EAFA-4649-AFE3-02178967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86F27-7FB3-4F9F-B668-10340BEE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F13BF-A066-4E80-8A47-9F3947B9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F19C7D-7498-48FA-9636-B5990A44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18B737-6DE5-41E9-9746-53674D58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432BC6-2726-4D44-B3E9-FC449EA1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BB01BB-B1D8-4E2C-822B-B9F0FE90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C5075-7CA3-4289-8A2F-A74CD4B0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13EB-00C0-4988-B751-4C88372A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6EC676-4951-4460-A0DC-611329D75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D56F0-DB58-41CE-8C7F-025DBF97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F55999-D85F-4DFF-BE6E-1675D9FA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6603B1-AC1F-4DD3-B7D6-083C574A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C8963B-5868-4ADD-AFF7-50CFE871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9EE73-5F97-45EF-8B5C-A9003C72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E03D40-1D8F-4B96-BDEE-1F505C92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960DE-BB05-4340-A3E1-725CB51F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1DAD22-A7E0-46EA-AEEE-51A43ADE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9DE6D-A9C0-4EBA-92CE-073EB8039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DDFB-1EE7-481F-9148-67987312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8DA304-F25D-40A0-8DE9-EE9E7F12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52BB6-3599-4A96-B20A-BA3B9DBE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974030-8154-4AC1-A6FD-7A76F40C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62DE9-8F25-47CF-A075-CD308CFC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B567CA-29AA-41FA-974E-4EBF488B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79EC0-ABBC-472B-A88C-ABE892C6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69AA1F-85AC-43C6-A85E-BDEE5061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9C5BF4-D439-4F97-9C65-BEE49E15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2ECC73-BB71-460E-9F54-4B7221BF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F8B9E-DFC6-431C-A701-2E432405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85B5-4B2C-4F6E-B3D2-FB1F883B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E6D9A5-7390-4708-8DDD-40560B6A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316AC-F169-4868-BF16-D7F5BFDE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6B284-DCB1-4B56-85E8-297576CE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9DD65-95DE-455A-AE44-0ECD20C5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0BC49-AD00-454A-B979-A6032315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3F46-83A8-4CC0-922F-32C788D1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23C10-F7D7-49B1-B682-82EE8943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6B0-BCF2-4230-A165-7E86C3AA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DA845-571B-477B-8A25-2A0D488F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9DCB8-A92C-46A2-839D-18BA0C49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58FE6-10A1-4308-8217-8632F98C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4DEC1-71F3-4B20-93DC-51941713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B776-5345-4BBA-88CF-E6DBD8E4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81CCB-543D-4B3C-8523-EDF54A8B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27629-1772-4BFE-AA77-71CE973C7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CA19A-F255-4D73-B6B3-3C951DDB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ECA9-0FA6-4CEF-8F23-6991761D6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93367-318D-4394-AAB0-EFA02250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AA8-CA7E-41DA-AF7F-7C157603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DD6F3-42A3-48ED-B54F-B423397E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7BE6-C4B7-4D6F-A9B8-B97C09E3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CDE0-8577-4CB3-9E5F-63355E3E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B9FEF-11DC-4A8F-8707-660EB69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7D36B-929C-4B51-9383-074AD3A1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C8780-D4DB-4719-8EBA-D6A890B05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40C9-073B-4FED-A1AB-9FF3ED46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50751-F039-4750-AD9A-1E83D5C0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612C0-B410-40E3-BA74-673BE7C7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AA828-8AD9-4A30-BCDF-C3B0F3A2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8D0-DA8D-4BAE-A7E7-ED745658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791C6-CE4F-4E0C-91B5-CD650B9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CDDCB9-862F-49E8-A390-31C9A8DD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B9EA8-69DC-49BE-A8BE-1C9B2E8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C3E6F-773C-4BAC-AC51-E349FC76C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32FA-335D-438D-9DB3-C2766348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6E779-22B0-48AB-9C25-FA15DA9D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186E6-C976-448A-8429-E184CDF80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E3840-6218-43A3-829E-149638D6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54A2-DD84-4E2C-9C05-2664114C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0591D4-BC77-454F-8282-27D61C20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D2F9-BAF8-49D0-B73F-4CA86311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D6112-FAE7-4522-915F-A907E715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DB365-C28C-4890-8909-2411F458A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706E-D669-4219-A457-764C224A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2ADBAC-301C-4023-966C-B9EB4482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DAE0D-B999-412B-82E4-10C0C59A6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293B-2847-4788-811B-937BB5C4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444AC-32E0-4D30-A59D-06FEE9C3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BFAAA-BE6B-45E7-9037-E16294A7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5CEF2-F1D3-4FB2-8F7E-3BCF5FE5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2EE76C-B898-4FCC-9F61-551247F9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018D-4D9A-45EB-AC68-3104AD6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4C321-8A2C-49D3-A8F0-0E603AE6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A1AD8-CC0C-4C18-AFD0-625210D1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C1C7E-6DB7-44EE-80F7-C7421704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7E888-8A4D-48D1-8729-1AB72499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27F9EA-ED9D-4056-A48F-7B9C9BA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82673-1492-478A-9771-BD3A1E53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C1BE7-4707-4C92-96B3-04CAAB4B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38490-6A0A-4325-A825-00C3460D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120D5-A237-44C9-9813-A0C11D9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90AC3-1355-4153-916C-C0F9AB82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BF1-470A-4243-B09D-91D6D6BA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F21C5-9C80-46A3-9B19-B7A5F8BD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FA585-FB88-4406-B447-AADD9908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90035-9502-403A-9ED6-771C9EBE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E7DF0-5B84-47FA-A54E-676C1F70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827EC-296D-4B53-9749-8485B00D4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34E0-02B1-4891-9CA9-8575B416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4A0DF-49CA-46BC-A24F-06A445C1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8459D-4355-449C-9BB3-A31A1196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D5B6D-FA97-4B91-92E1-9E925B0A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E20F9-B5F1-41CA-B351-4378DBB9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4D31-6522-427E-BA3F-14AD90A2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96F37-D752-4ECA-ACC4-8CCCECF0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93C79-36AA-4944-A031-9B410DBA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D9D8B-8380-4BC7-84B3-5A4AA6F8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492D-FE27-46FC-A635-A06338B9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CEAFE-3B16-41B1-8D85-EE01F99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6E51A-0072-4891-BED4-79E5DE08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1DB75-97B0-4E05-817F-7B6D0302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F8D11-82EE-4BE4-A464-F3947B06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1704B-693F-4779-8E8A-4591CCDD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C18E0-248E-4D62-AFFC-92CFD019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8098-5877-4CE2-A3AE-7AF48F3F4E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FAAA-B99A-46D4-B4C3-BE62BA6E4D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F54C-22BE-4CF4-861B-37C6F93901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EC84-65CF-40CE-BC0F-DEB6EF7D55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22B5-F3BF-433B-AB27-AA38F65DA6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4885-C5F2-464F-8357-704313409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D1CA-B266-459D-95F6-A7D6CD8E2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4CEC-1B92-42DD-B60B-6D7300FD87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DE4A-05FC-41EB-AFE5-D4F5DFE65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2802-CB08-4C7E-8F71-468DDD8552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8AA61-D8AD-439E-B5E4-9E4E9327C5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9487-C72C-43D7-89DB-63A53390B0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823B-AFE4-4977-8E9E-3D8C6A871A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C99-A44E-43C9-A3BF-A9FC1492B9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4E3B-537B-4E09-95BE-CB15C64B02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673-97E1-4CCB-8313-7C9DDE8925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6251-A731-43DB-A59A-C8ABDA444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3E5CD-78E0-4BC6-8126-0E0EB4039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518D-C1AC-4A76-B86A-D0B4FFDA5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92DB-97B4-4266-9C6A-D299C2D106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C4A8-5E45-4870-8440-8EFD7BAC0E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EC17-C08D-47B7-BBC1-75A55CEBC0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E5C5-2577-40FE-9DD7-B013A87639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ECE2-A2D3-47F8-97CE-843FC2E94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E77D-7D68-4A30-BABA-0EADC5341A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4F68-859E-4D14-9CB2-688C6EF70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20D6-2388-4F7B-9EE9-BFBB9B39D4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9E72-4FEE-407E-B19D-0B5BDCD323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9957-F12F-426A-AB30-89AB76D3B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0F5C-4759-4683-9ABE-AAE89D7B8E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827A-78B0-46B5-823A-D660AF8783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84D4-92BE-4D2E-8A0D-15D0A3A40D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2B68-5CFD-4419-9952-CBA33FE84D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0331-C4E9-47E7-A48A-535773EE1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04CC-05BA-4788-8627-014F8364D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9AF64-064E-403A-902A-36E3BF2CB7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7283-D55F-453C-9EF1-D1EA38BCDA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2E2C-49DB-4838-A4D7-8B1389EB2D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77FD-5864-4D30-8280-46DDD9C7E3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CDA7-6273-4DCD-B523-D9FA5720F1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99880" y="1916280"/>
            <a:ext cx="8544240" cy="110484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52360" y="3774960"/>
            <a:ext cx="8639280" cy="7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676440" y="709560"/>
            <a:ext cx="7791120" cy="54388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55640" y="909720"/>
            <a:ext cx="799308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7993080" cy="447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752400" y="2492280"/>
            <a:ext cx="525960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752400" y="3284640"/>
            <a:ext cx="5259600" cy="4474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681120" y="4076640"/>
            <a:ext cx="525924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681120" y="4869000"/>
            <a:ext cx="5259240" cy="44748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8"/>
          <a:stretch/>
        </p:blipFill>
        <p:spPr>
          <a:xfrm>
            <a:off x="755640" y="5661000"/>
            <a:ext cx="7993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76120" y="704880"/>
            <a:ext cx="8591760" cy="58197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6877080" y="335772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348000" y="515772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9410" descr=""/>
          <p:cNvPicPr/>
          <p:nvPr/>
        </p:nvPicPr>
        <p:blipFill>
          <a:blip r:embed="rId1"/>
          <a:stretch/>
        </p:blipFill>
        <p:spPr>
          <a:xfrm>
            <a:off x="1119240" y="1243080"/>
            <a:ext cx="6905520" cy="4371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4"/>
          <a:stretch/>
        </p:blipFill>
        <p:spPr>
          <a:xfrm>
            <a:off x="3851280" y="407664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5"/>
          <a:stretch/>
        </p:blipFill>
        <p:spPr>
          <a:xfrm>
            <a:off x="5076720" y="495612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8373" descr=""/>
          <p:cNvPicPr/>
          <p:nvPr/>
        </p:nvPicPr>
        <p:blipFill>
          <a:blip r:embed="rId1"/>
          <a:stretch/>
        </p:blipFill>
        <p:spPr>
          <a:xfrm>
            <a:off x="633240" y="1252440"/>
            <a:ext cx="7877520" cy="43531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2"/>
          <a:stretch/>
        </p:blipFill>
        <p:spPr>
          <a:xfrm>
            <a:off x="6012000" y="226044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3"/>
          <a:stretch/>
        </p:blipFill>
        <p:spPr>
          <a:xfrm>
            <a:off x="6761160" y="314172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4"/>
          <a:stretch/>
        </p:blipFill>
        <p:spPr>
          <a:xfrm>
            <a:off x="6804000" y="40338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5"/>
          <a:stretch/>
        </p:blipFill>
        <p:spPr>
          <a:xfrm>
            <a:off x="6300720" y="4927680"/>
            <a:ext cx="1511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290520" y="1257480"/>
            <a:ext cx="8562960" cy="434340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2411280" y="233352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6084720" y="4119480"/>
            <a:ext cx="16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6324" descr=""/>
          <p:cNvPicPr/>
          <p:nvPr/>
        </p:nvPicPr>
        <p:blipFill>
          <a:blip r:embed="rId1"/>
          <a:stretch/>
        </p:blipFill>
        <p:spPr>
          <a:xfrm>
            <a:off x="638280" y="2209680"/>
            <a:ext cx="7867440" cy="24386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3276720" y="3068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755640" y="104760"/>
            <a:ext cx="7410600" cy="66484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2901960" y="1341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4183200" y="23194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2886120" y="328464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751200" y="42498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2873520" y="52149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4168800" y="61801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8" name="图片 54276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572320" cy="5000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2"/>
          <a:stretch/>
        </p:blipFill>
        <p:spPr>
          <a:xfrm>
            <a:off x="826920" y="2751120"/>
            <a:ext cx="4969080" cy="4478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3"/>
          <a:stretch/>
        </p:blipFill>
        <p:spPr>
          <a:xfrm>
            <a:off x="826920" y="360216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4"/>
          <a:stretch/>
        </p:blipFill>
        <p:spPr>
          <a:xfrm>
            <a:off x="826920" y="4408560"/>
            <a:ext cx="49690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5"/>
          <a:stretch/>
        </p:blipFill>
        <p:spPr>
          <a:xfrm>
            <a:off x="826920" y="5157720"/>
            <a:ext cx="7274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2231" descr=""/>
          <p:cNvPicPr/>
          <p:nvPr/>
        </p:nvPicPr>
        <p:blipFill>
          <a:blip r:embed="rId1"/>
          <a:stretch/>
        </p:blipFill>
        <p:spPr>
          <a:xfrm>
            <a:off x="376200" y="1343160"/>
            <a:ext cx="839160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5:4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